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8E9-A901-4127-B471-88867D8D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5B1-F0DB-4E88-8CB0-DC3C288F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8DF-702D-4E31-88B8-0886A4EB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4A4-A7C8-493F-83E5-EAED87AE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8AE-E46B-4DAC-9D18-10091447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FA2-50C3-424A-9732-5D8C805F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E65-0E8B-4CF9-B8E4-282B7260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423-9864-4960-87BB-EF039B4B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E27-537A-4E70-8B78-6F05E31F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4BE-9730-40D3-856F-E9544D64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C56-C9F3-4221-8E2F-0B7E370B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2EB-097F-4082-B927-785B8F27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31DA-CF0F-41C5-ADB2-95EA44B30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KA HELPS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O WHOM: SIX YEAR- OLD PRIM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WHAT: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WHEN: FEBRUARY  ( 1 or 3 less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VIEWIN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LISTENING TO EPISODE ( ONLY SOU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ING 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GSAW PUZZ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 - VIE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watch for pl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Watch for knowledge( wh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nging song- joining animals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-VIEWIN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ole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rawing characters in pairs and sequ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c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5:15:17Z</dcterms:created>
  <dc:creator>UTENTE01</dc:creator>
  <dc:description/>
  <dc:language>en-US</dc:language>
  <cp:lastModifiedBy>UTENTE01</cp:lastModifiedBy>
  <dcterms:modified xsi:type="dcterms:W3CDTF">2006-01-10T15:16:12Z</dcterms:modified>
  <cp:revision>2</cp:revision>
  <dc:subject/>
  <dc:title>BINKA HELPS OUT</dc:title>
</cp:coreProperties>
</file>